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9.wmf" ContentType="image/x-wmf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A73C0-FFF2-48F7-95DC-CDABE8DF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E36E8-9ABB-457D-AB9D-BC271834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AAB2-9BFA-4D9F-A164-58E52A34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B1705-CB19-44E5-947E-B497D5CF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F48E-C26C-42F8-9172-7BF31144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2514-E807-4DCE-A130-826AAB16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19C1-FECA-4780-B17B-E245D28C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A137-4465-4921-8CAE-50CC625A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928B-2F83-46FC-B042-618D33E3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5ED8-2561-44E6-BC5D-BFBDE854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A02B-6A87-4B7D-B3C7-421F2F62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E76DC-1973-47BE-A533-28B622BE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EF96-52E2-4383-8D73-78D991D7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46E5-0787-42A4-9326-9EDBFAB9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6A7F-4CD8-4A24-A3F5-37E37EE9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6D60-0236-4949-854F-49D106A5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B62D-E183-4339-AD8F-FF7DD1EF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E8005-3ABE-46B9-8C07-D827F27B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D99EA-8E94-4AA0-8B2E-D3AFDB13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4E2EB-7B9A-4B47-9F16-FD6A32C3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7972-4703-48F4-9192-BF2A6BA5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65072-704E-440F-A5DF-1358F524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E2E93-3E76-4D7D-847D-360921A0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37CF2-C708-4111-95FD-6AACFF3B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C0A3-68D9-4311-BE24-BBED5EDA4AC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5EA7-4DBD-4E10-BE9C-C167019EA67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208080" y="2405160"/>
            <a:ext cx="992196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10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اسماء الموصولة</a:t>
            </a:r>
            <a:endParaRPr b="0" lang="en-US" sz="10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3280" y="1341360"/>
            <a:ext cx="6120000" cy="16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700" spc="-1" strike="noStrike">
                <a:solidFill>
                  <a:srgbClr val="cc3399"/>
                </a:solidFill>
                <a:latin typeface="Tahoma"/>
                <a:cs typeface="Traditional Arabic"/>
              </a:rPr>
              <a:t>انتهى الدرس</a:t>
            </a:r>
            <a:br>
              <a:rPr sz="9700"/>
            </a:br>
            <a:endParaRPr b="0" lang="en-US" sz="97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77" name="Picture 6" descr="147859654"/>
          <p:cNvPicPr/>
          <p:nvPr/>
        </p:nvPicPr>
        <p:blipFill>
          <a:blip r:embed="rId1"/>
          <a:stretch/>
        </p:blipFill>
        <p:spPr>
          <a:xfrm>
            <a:off x="2771640" y="3213000"/>
            <a:ext cx="39960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26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أسماء الموصولة</a:t>
            </a:r>
            <a:br>
              <a:rPr sz="6600"/>
            </a:br>
            <a:r>
              <a:rPr b="1" lang="ar-SA" sz="6600" spc="-1" strike="noStrike">
                <a:solidFill>
                  <a:srgbClr val="ff3399"/>
                </a:solidFill>
                <a:latin typeface="Tahoma"/>
                <a:cs typeface="Traditional Arabic"/>
              </a:rPr>
              <a:t>مـا هـي ؟ </a:t>
            </a:r>
            <a:endParaRPr b="0" lang="en-US" sz="66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8" name="Picture 8" descr="418arabsvip_com"/>
          <p:cNvPicPr/>
          <p:nvPr/>
        </p:nvPicPr>
        <p:blipFill>
          <a:blip r:embed="rId2"/>
          <a:stretch/>
        </p:blipFill>
        <p:spPr>
          <a:xfrm>
            <a:off x="7075440" y="4975200"/>
            <a:ext cx="2068560" cy="188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imagesCAVEYGXS"/>
          <p:cNvPicPr/>
          <p:nvPr/>
        </p:nvPicPr>
        <p:blipFill>
          <a:blip r:embed="rId3"/>
          <a:stretch/>
        </p:blipFill>
        <p:spPr>
          <a:xfrm>
            <a:off x="1403280" y="3429000"/>
            <a:ext cx="21002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6920" y="404640"/>
            <a:ext cx="6480360" cy="77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3399"/>
                </a:solidFill>
                <a:latin typeface="Tahoma"/>
                <a:cs typeface="Traditional Arabic"/>
              </a:rPr>
              <a:t>مفهوم الاسم الموصول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أحب أمي التي سهرت من أجلي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ahoma"/>
              </a:rPr>
              <a:t>هل للجملة السابقة معنى تام ؟       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r" rtl="1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726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هل بقيت الجملة تامة المعنى 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726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ما الكلمة التي جعلت الجملة غير تامة المعنى 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كلمة ( التي) أهي اسم ،أم فعل ،أم حرف؟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726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هل الاسم ( التي ) له معنى ودلالة واضحة بمفرده 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624"/>
              </a:spcBef>
              <a:buClr>
                <a:srgbClr val="6600ff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ahoma"/>
              </a:rPr>
              <a:t>هل يحتاج الاسم ( التي ) إلى وصله بجملة بعده توضح دلالته وتتم معناه ؟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Tahoma"/>
              </a:rPr>
              <a:t> نعم ، فمعناه مرتبط وموصول بالجملة التي بعده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Oval 4"/>
          <p:cNvSpPr/>
          <p:nvPr/>
        </p:nvSpPr>
        <p:spPr>
          <a:xfrm>
            <a:off x="2771640" y="1844640"/>
            <a:ext cx="4319640" cy="576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54000" tIns="0" bIns="1800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ahoma"/>
              </a:rPr>
              <a:t>أُحِبُّ أم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788000" y="2349360"/>
            <a:ext cx="54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99"/>
                </a:solidFill>
                <a:latin typeface="Tahoma"/>
              </a:rPr>
              <a:t>نعم</a:t>
            </a:r>
            <a:r>
              <a:rPr b="0" lang="ar-SA" sz="18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635280" y="3213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ahoma"/>
              </a:rPr>
              <a:t>ل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 rot="10800000">
            <a:off x="6012000" y="2923920"/>
            <a:ext cx="2449440" cy="430200"/>
          </a:xfrm>
          <a:prstGeom prst="flowChartOnlineStorag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</a:rPr>
              <a:t>أحب أمي الت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908000" y="3716280"/>
            <a:ext cx="86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Tahoma"/>
              </a:rPr>
              <a:t>الت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195640" y="4292640"/>
            <a:ext cx="86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Tahoma"/>
              </a:rPr>
              <a:t>اس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332000" y="4797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Tahoma"/>
              </a:rPr>
              <a:t>ل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14" descr="avatar88657_10"/>
          <p:cNvPicPr/>
          <p:nvPr/>
        </p:nvPicPr>
        <p:blipFill>
          <a:blip r:embed="rId3"/>
          <a:stretch/>
        </p:blipFill>
        <p:spPr>
          <a:xfrm>
            <a:off x="826920" y="54936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662472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r" rtl="1"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ahoma"/>
              </a:rPr>
              <a:t> ماذا نسمي الاسم الذي لا يتم معناه إلا بوصله بجملة بعده</a:t>
            </a:r>
            <a:r>
              <a:rPr b="0" lang="ar-SA" sz="3800" spc="-1" strike="noStrike">
                <a:solidFill>
                  <a:srgbClr val="000000"/>
                </a:solidFill>
                <a:latin typeface="Tahoma"/>
              </a:rPr>
              <a:t> ؟</a:t>
            </a:r>
            <a:br>
              <a:rPr sz="3800"/>
            </a:br>
            <a:r>
              <a:rPr b="0" lang="ar-SA" sz="3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187280" y="1266840"/>
            <a:ext cx="4176720" cy="649440"/>
          </a:xfrm>
          <a:prstGeom prst="flowChartOnlineStorag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99"/>
                </a:solidFill>
                <a:latin typeface="Tahoma"/>
              </a:rPr>
              <a:t>سهرت من أجل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7"/>
          <p:cNvSpPr/>
          <p:nvPr/>
        </p:nvSpPr>
        <p:spPr>
          <a:xfrm rot="10800000">
            <a:off x="5003640" y="1196640"/>
            <a:ext cx="3564000" cy="71928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99"/>
                </a:solidFill>
                <a:latin typeface="Tahoma"/>
              </a:rPr>
              <a:t>أحب أمي الت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0" y="404640"/>
            <a:ext cx="19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99"/>
                </a:solidFill>
                <a:latin typeface="Tahoma"/>
              </a:rPr>
              <a:t>الاسم الموصو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132000" y="242100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- ما الجملة التي أتمت معنى الاسم الموصول ( التي ) 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971640" y="2421000"/>
            <a:ext cx="215892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3399"/>
                </a:solidFill>
                <a:latin typeface="Tahoma"/>
              </a:rPr>
              <a:t>سهرت من اجلي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1979640" y="311616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- ماذا نسمي الجملة التي تأتي بعد الاسم الموصول وتتم معناه 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2556000" y="3789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جملة</a:t>
            </a:r>
            <a:r>
              <a:rPr b="1" lang="ar-SA" sz="2400" spc="-1" strike="noStrike">
                <a:solidFill>
                  <a:srgbClr val="0033cc"/>
                </a:solidFill>
                <a:latin typeface="Tahoma"/>
              </a:rPr>
              <a:t> صلة الموصول</a:t>
            </a: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5796000" y="4869000"/>
            <a:ext cx="1512720" cy="825480"/>
          </a:xfrm>
          <a:prstGeom prst="rect">
            <a:avLst/>
          </a:prstGeom>
          <a:solidFill>
            <a:srgbClr val="ffa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c0c0"/>
                </a:solidFill>
                <a:latin typeface="Tahoma"/>
              </a:rPr>
              <a:t>أحب أمي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4861080" y="4869000"/>
            <a:ext cx="934920" cy="45972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تي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2987640" y="4869000"/>
            <a:ext cx="187164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99"/>
                </a:solidFill>
                <a:latin typeface="Tahoma"/>
              </a:rPr>
              <a:t>سهرت من أجلي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56000" y="277920"/>
            <a:ext cx="6130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3399"/>
                </a:solidFill>
                <a:latin typeface="Tahoma"/>
                <a:cs typeface="Traditional Arabic"/>
              </a:rPr>
              <a:t>وبعد هذا الشرح الوافي ماذا تستنتج ؟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2" name="Cloud"/>
          <p:cNvSpPr/>
          <p:nvPr/>
        </p:nvSpPr>
        <p:spPr>
          <a:xfrm>
            <a:off x="611280" y="1197000"/>
            <a:ext cx="8064360" cy="3909960"/>
          </a:xfrm>
          <a:prstGeom prst="pie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3399"/>
                </a:solidFill>
                <a:latin typeface="Tahoma"/>
                <a:cs typeface="Traditional Arabic"/>
              </a:rPr>
              <a:t>أستنتج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اسم الموصول 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ahoma"/>
                <a:cs typeface="Traditional Arabic"/>
              </a:rPr>
              <a:t>هو اسم لا يتم معناه إلا بجملة تأتي بعده تسمى صلة الموصول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5" descr="al-anssari-d6a4dd62c1"/>
          <p:cNvPicPr/>
          <p:nvPr/>
        </p:nvPicPr>
        <p:blipFill>
          <a:blip r:embed="rId1"/>
          <a:stretch/>
        </p:blipFill>
        <p:spPr>
          <a:xfrm>
            <a:off x="7524720" y="4149720"/>
            <a:ext cx="1333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343640" cy="1266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200" spc="-1" strike="noStrike">
                <a:solidFill>
                  <a:srgbClr val="ff3399"/>
                </a:solidFill>
                <a:latin typeface="Tahoma"/>
                <a:cs typeface="Traditional Arabic"/>
              </a:rPr>
              <a:t>أمثلة توضيحية </a:t>
            </a:r>
            <a:endParaRPr b="0" lang="en-US" sz="6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 algn="r" rtl="1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 التلاميذ </a:t>
            </a:r>
            <a:r>
              <a:rPr b="1" lang="ar-SA" sz="2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ذين</a:t>
            </a:r>
            <a:r>
              <a:rPr b="1" lang="ar-SA" sz="2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ثابروا على الدراسة 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05560" indent="0" algn="r" rtl="1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ت التلميذات </a:t>
            </a:r>
            <a:r>
              <a:rPr b="1" lang="ar-SA" sz="2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لاتي</a:t>
            </a:r>
            <a:r>
              <a:rPr b="1" lang="ar-SA" sz="2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ثابرن على الدراسة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05560" indent="0" algn="r" rtl="1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ت التجارب </a:t>
            </a:r>
            <a:r>
              <a:rPr b="1" lang="ar-SA" sz="2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تي</a:t>
            </a:r>
            <a:r>
              <a:rPr b="1" lang="ar-SA" sz="26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أجريت في المختبر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56000" y="1628640"/>
            <a:ext cx="417672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0" algn="r" rtl="1">
              <a:lnSpc>
                <a:spcPct val="2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 التلميذ </a:t>
            </a:r>
            <a:r>
              <a:rPr b="1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ذي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ثابر على الدراس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5480" indent="0" algn="r" rtl="1">
              <a:lnSpc>
                <a:spcPct val="2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ت التلميذة </a:t>
            </a:r>
            <a:r>
              <a:rPr b="1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تي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ثابرت على الدراس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5480" indent="0" algn="r" rtl="1">
              <a:lnSpc>
                <a:spcPct val="2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 التلميذان </a:t>
            </a:r>
            <a:r>
              <a:rPr b="1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لذان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ثابرا على الدراس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5480" indent="0" algn="r" rtl="1">
              <a:lnSpc>
                <a:spcPct val="2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نجحت التلميذتان </a:t>
            </a:r>
            <a:r>
              <a:rPr b="1" lang="ar-SA" sz="2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لتان </a:t>
            </a:r>
            <a:r>
              <a:rPr b="1" lang="ar-SA" sz="2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ثابرتا على الدراسة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6"/>
          <p:cNvSpPr/>
          <p:nvPr/>
        </p:nvSpPr>
        <p:spPr>
          <a:xfrm flipV="1">
            <a:off x="4500720" y="1557360"/>
            <a:ext cx="0" cy="475128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3040" y="404280"/>
            <a:ext cx="6870960" cy="119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6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أسماء الموصولة هي :</a:t>
            </a:r>
            <a:endParaRPr b="0" lang="en-US" sz="5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ذي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ت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لذا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لتا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ذي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لاتي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4"/>
          <p:cNvSpPr/>
          <p:nvPr/>
        </p:nvSpPr>
        <p:spPr>
          <a:xfrm flipH="1">
            <a:off x="5076720" y="1989000"/>
            <a:ext cx="273528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059280" y="1700280"/>
            <a:ext cx="194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لمفرد المذك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6"/>
          <p:cNvSpPr/>
          <p:nvPr/>
        </p:nvSpPr>
        <p:spPr>
          <a:xfrm flipH="1">
            <a:off x="5076360" y="2637000"/>
            <a:ext cx="280836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 flipH="1">
            <a:off x="5219640" y="3213000"/>
            <a:ext cx="259416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5219640" y="3860640"/>
            <a:ext cx="266544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5219640" y="4581360"/>
            <a:ext cx="266544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 flipH="1">
            <a:off x="5219640" y="5229360"/>
            <a:ext cx="2594160" cy="0"/>
          </a:xfrm>
          <a:prstGeom prst="line">
            <a:avLst/>
          </a:prstGeom>
          <a:ln w="9360">
            <a:solidFill>
              <a:srgbClr val="ffafd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2987640" y="4349880"/>
            <a:ext cx="201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جماعة الذكو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3564000" y="3630600"/>
            <a:ext cx="15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لمثنى المؤن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492360" y="4941720"/>
            <a:ext cx="15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جماعة الإنا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492360" y="2981160"/>
            <a:ext cx="15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لمثنى المذك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763640" y="2349360"/>
            <a:ext cx="324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cs typeface="Traditional Arabic"/>
              </a:rPr>
              <a:t>للمفردة المؤنثة ولجمع غير العاق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00"/>
                            </p:stCondLst>
                            <p:childTnLst>
                              <p:par>
                                <p:cTn id="3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30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"/>
                            </p:stCondLst>
                            <p:childTnLst>
                              <p:par>
                                <p:cTn id="3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300"/>
                            </p:stCondLst>
                            <p:childTnLst>
                              <p:par>
                                <p:cTn id="3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8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400"/>
                            </p:stCondLst>
                            <p:childTnLst>
                              <p:par>
                                <p:cTn id="4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400"/>
                            </p:stCondLst>
                            <p:childTnLst>
                              <p:par>
                                <p:cTn id="4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قاعدة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اسم الموصول هو : اسم لايتم معناه إلا بجملة تأتي بعده ، وتسمى صلة الموصول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أسماء الموصولة هي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ذي  للمفرد المذكر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2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تي  للمفرد المؤنث ولجمع غير العاقل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3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لذان  للمثنى المذك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4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لتان  للمثنى المذك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5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ذين  لجماعة الذكو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6</a:t>
            </a:r>
            <a:r>
              <a:rPr b="0" lang="ar-SA" sz="2800" spc="-1" strike="noStrike">
                <a:solidFill>
                  <a:srgbClr val="ff3399"/>
                </a:solidFill>
                <a:latin typeface="Tahoma"/>
                <a:ea typeface="Traditional Arabic"/>
              </a:rPr>
              <a:t>- اللاتي  لجماعة الإناث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201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700" spc="-1" strike="noStrike">
                <a:solidFill>
                  <a:srgbClr val="ff3399"/>
                </a:solidFill>
                <a:latin typeface="Tahoma"/>
                <a:cs typeface="Traditional Arabic"/>
              </a:rPr>
              <a:t>التقويم</a:t>
            </a:r>
            <a:endParaRPr b="0" lang="en-US" sz="57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أستخرجُ الاسماء الموصولة فيما يأتي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Tahoma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800000"/>
                </a:solidFill>
                <a:latin typeface="Tahoma"/>
                <a:ea typeface="Traditional Arabic"/>
              </a:rPr>
              <a:t>- اللهم أصلح لي ديني الذي هو عصمت أمري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Tahoma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000099"/>
                </a:solidFill>
                <a:latin typeface="Tahoma"/>
                <a:ea typeface="Traditional Arabic"/>
              </a:rPr>
              <a:t>- كبرت الشجرتان اللتان زرعتهما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6600"/>
                </a:solidFill>
                <a:latin typeface="Tahoma"/>
                <a:ea typeface="Traditional Arabic"/>
              </a:rPr>
              <a:t>3</a:t>
            </a:r>
            <a:r>
              <a:rPr b="0" lang="ar-SA" sz="3200" spc="-1" strike="noStrike">
                <a:solidFill>
                  <a:srgbClr val="cc6600"/>
                </a:solidFill>
                <a:latin typeface="Tahoma"/>
                <a:ea typeface="Traditional Arabic"/>
              </a:rPr>
              <a:t>- فاحت رائحة الأزهار التي بالحديق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00"/>
                </a:solidFill>
                <a:latin typeface="Tahoma"/>
                <a:ea typeface="Traditional Arabic"/>
              </a:rPr>
              <a:t>4</a:t>
            </a:r>
            <a:r>
              <a:rPr b="0" lang="ar-SA" sz="3200" spc="-1" strike="noStrike">
                <a:solidFill>
                  <a:srgbClr val="009900"/>
                </a:solidFill>
                <a:latin typeface="Tahoma"/>
                <a:ea typeface="Traditional Arabic"/>
              </a:rPr>
              <a:t>- هؤلاء الفتيات اللاتي شاركن في المسابق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6699"/>
                </a:solidFill>
                <a:latin typeface="Tahoma"/>
                <a:ea typeface="Traditional Arabic"/>
              </a:rPr>
              <a:t>5</a:t>
            </a:r>
            <a:r>
              <a:rPr b="0" lang="ar-SA" sz="3200" spc="-1" strike="noStrike">
                <a:solidFill>
                  <a:srgbClr val="666699"/>
                </a:solidFill>
                <a:latin typeface="Tahoma"/>
                <a:ea typeface="Traditional Arabic"/>
              </a:rPr>
              <a:t>- هؤلاء الطلاب الذين شاركوا في المسابق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Traditional Arabic"/>
              </a:rPr>
              <a:t>- تبقى اسم موصول لم نذكره في هذه الأمثلة من يذكره لنا 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320"/>
                            </p:stCondLst>
                            <p:childTnLst>
                              <p:par>
                                <p:cTn id="4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480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760"/>
                            </p:stCondLst>
                            <p:childTnLst>
                              <p:par>
                                <p:cTn id="4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240"/>
                            </p:stCondLst>
                            <p:childTnLst>
                              <p:par>
                                <p:cTn id="4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8:37:23Z</dcterms:created>
  <dc:creator>ריהאם</dc:creator>
  <dc:description/>
  <dc:language>en-US</dc:language>
  <cp:lastModifiedBy>User</cp:lastModifiedBy>
  <dcterms:modified xsi:type="dcterms:W3CDTF">2016-10-31T16:31:26Z</dcterms:modified>
  <cp:revision>39</cp:revision>
  <dc:subject>الإسم الموصول</dc:subject>
  <dc:title>قواعد اللغة العربية-الصف الثالث</dc:title>
</cp:coreProperties>
</file>